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232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14E1F-381A-45FD-9B51-1F284353E4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BF887-3C68-4E9C-8593-6A75009D45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9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4FF20-8FF5-42E2-BFB3-614C683A5A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6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CE8E-24DA-4A52-85BB-BAAE4370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E408-1E53-4D3B-9F7C-01844C08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870E-045E-4BAA-B1F8-E3AF3DAC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832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E1B4-F7F5-48CE-9D9F-414344995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8F96-A8BB-4055-9B3E-FD2B67A3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4C46-6E53-4F3E-9C69-6DA74ED4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41BF-59B0-4A54-8B87-4E6418DB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E510-89EA-443C-AACF-5B39A18D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83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3364-AE26-4DD8-9243-4E21CBBA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E8F3-DE90-4130-8936-F87E38A7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6BD6-C0FD-44D9-9CA3-2DA2EBB1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4854-3F21-419A-9A7C-6E775C4A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AA0B5F3-4FA2-4052-BDC4-D4CA3E31935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3280" y="1767960"/>
            <a:ext cx="905832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7" descr=""/>
          <p:cNvPicPr/>
          <p:nvPr/>
        </p:nvPicPr>
        <p:blipFill>
          <a:blip r:embed="rId1"/>
          <a:stretch/>
        </p:blipFill>
        <p:spPr>
          <a:xfrm>
            <a:off x="1254240" y="2422440"/>
            <a:ext cx="5500440" cy="2997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77904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ой схеме придумайте текст задачи (устно) и запишите решение в тетрад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30 граммов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969240" y="4494240"/>
            <a:ext cx="28922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5652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готовления раствора необходимо смешать 2 части воды и 1 часть концентрата. Масса раствора 330 г. Сколько воды потребуется его приготовления?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2200" y="3493800"/>
            <a:ext cx="8915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2+1=3(ч.) – количество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330:3=110(г) – одна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110*2=220(г) – количество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22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969240" y="4851360"/>
            <a:ext cx="2681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897520" y="3994200"/>
            <a:ext cx="3527640" cy="3249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72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аренье из огурцов и крыжовника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39680" y="2279520"/>
            <a:ext cx="841536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50000"/>
          </a:bodyPr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варенья берут 2 части огурцов,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крыжовника и 4 части сахара. Ск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собрать крыжовника, если у нас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лограмма сахара? Составить схему к задач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ещё 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 можно было бы задать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832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читать количество продук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2920" y="1279080"/>
            <a:ext cx="445284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5000"/>
          </a:bodyPr>
          <a:p>
            <a:pPr marL="291600" indent="-2916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25840" y="1279440"/>
            <a:ext cx="445284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4000"/>
          </a:bodyPr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 1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чет количества продук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640" y="1279080"/>
            <a:ext cx="445320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7000"/>
          </a:bodyPr>
          <a:p>
            <a:pPr marL="263880" indent="-2638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2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2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25840" y="1279080"/>
            <a:ext cx="44528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8000"/>
          </a:bodyPr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12ч 3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576360" y="1152360"/>
            <a:ext cx="928836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думать или найти интересный рецепт, составить задачу, схему, красочно оформить ее условие и реш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826240" y="4280040"/>
            <a:ext cx="3409920" cy="2519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576360" y="3298680"/>
            <a:ext cx="935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120" bIns="0" anchor="t">
            <a:noAutofit/>
          </a:bodyPr>
          <a:p>
            <a:pPr marL="343080" indent="-333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3612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енный диктан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5480" y="2208240"/>
            <a:ext cx="905832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 для определения врем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й бассейн для ры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передвижения Бабы Я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килограм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яя буква в слове «ноч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968400" y="493560"/>
            <a:ext cx="806436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Задачи на част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68400" y="3422520"/>
            <a:ext cx="3338640" cy="3003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27640" y="4751280"/>
            <a:ext cx="4535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5440" y="56520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25480" y="2708280"/>
            <a:ext cx="957744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ь алгорит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ка решения зада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знаний на практик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3840" y="422280"/>
            <a:ext cx="9057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3840" y="1636200"/>
            <a:ext cx="90579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ажное условие должно выполняться в задачах на ча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ервым делом необходимо найти при     решении задачи на ч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алгоритм решения задачи на ч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решения задач на ча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2560" y="213624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ение одной ча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ение тех частей, о               которых спрашивается в задаче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йка разделил 12 орехов на 2 равные части - для себя и Знай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3280" y="1279080"/>
            <a:ext cx="9577440" cy="5565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 этом случае пришлось орехов на одну ча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На сколько равных частей нужно разделить 12 орех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а одну часть приходилось 2 орех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В одной части 3 ореха. Сколько частей при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о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колько орехов будет приходиться на 1 часть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12 орехов Незнайка поделит на 3  равные ча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равных час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5254560" y="3708360"/>
            <a:ext cx="4183200" cy="3208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br>
              <a:rPr sz="7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3800" y="1422000"/>
            <a:ext cx="905796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ля приготовления рисовой каши надо взять 2 части риса, 3 части молока и 5 частей воды. Сколько молока и сколько воды понадобится, если взять 220 г ри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25120" y="1779120"/>
            <a:ext cx="89866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Какова масса одной ча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0 : 2 = 11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Сколько граммов молока понадоб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3 = 33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Сколько граммов воды понадобит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5 = 550 (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330 г, 55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11:02:32Z</dcterms:created>
  <dc:creator>user</dc:creator>
  <dc:description/>
  <dc:language>en-US</dc:language>
  <cp:lastModifiedBy>user</cp:lastModifiedBy>
  <dcterms:modified xsi:type="dcterms:W3CDTF">2017-12-20T23:46:10Z</dcterms:modified>
  <cp:revision>29</cp:revision>
  <dc:subject/>
  <dc:title>Слайд 1</dc:title>
</cp:coreProperties>
</file>